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14.png" ContentType="image/png"/>
  <Override PartName="/ppt/media/image8.wmf" ContentType="image/x-wmf"/>
  <Override PartName="/ppt/media/image2.gif" ContentType="image/gif"/>
  <Override PartName="/ppt/media/image1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E98-614C-4A8B-93D2-96A478DC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E04-3B7C-4E7B-9202-82055C0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DEB-AEA2-4779-90B2-81B846A3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F3E-BEFA-4264-9547-494FD942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0E-AB44-476F-BB97-BED2466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D60-A0C1-4CC9-A806-289E747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CD0-F61D-476B-9112-03A91EA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E14-31E9-45C1-919C-F4E13FF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17F-AEB9-4BD5-BE80-9E4D252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1FC-E763-4D6C-B1B3-F1C2BEA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A2-2C03-48D8-95B5-2EFCA17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34D-B181-4919-8FD7-F180CF9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8F1-F36E-46DE-86C7-4C1A1AD6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hksuk04.wav" TargetMode="External"/><Relationship Id="rId2" Type="http://schemas.microsoft.com/office/2007/relationships/media" Target="file:///tmp/home/.config/libreoffice/4/user/gallery/shksuk04.wa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Definition; to stare at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Synonym: star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Antonym: ign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Base Word: gl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Inflection: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Zapf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Syllable: glare-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Zapf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08800" y="2039760"/>
            <a:ext cx="1888920" cy="186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43760" y="4519440"/>
            <a:ext cx="819000" cy="1171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t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Definition: to tell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Base Word: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nonyms: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nflection :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llable: stor.y. tel.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ntonym: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9240" y="2066760"/>
            <a:ext cx="1508040" cy="18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49840" y="4321080"/>
            <a:ext cx="1806480" cy="156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Definition: to use with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Base Word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Inflection: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Synonym: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Syllables: bor.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zoo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zooka"/>
              </a:rPr>
              <a:t>Antonym: st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282888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Definition Exited and 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Base 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nonym: really hap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yllables: Ea.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ntonym: sad Dep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18160" y="3043080"/>
            <a:ext cx="1870200" cy="1990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ition: to talk rapidly and foolis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se Word: Ch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flection: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nony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llable: Chat.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tonym: m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46880" y="2244600"/>
            <a:ext cx="2012760" cy="145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99080" y="4125960"/>
            <a:ext cx="1908360" cy="1958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Definition: a Spanish word for 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Base 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Infl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Synonym: thank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Syllables: gra.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Unicor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corn"/>
              </a:rPr>
              <a:t>Antonym: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51640" y="2562120"/>
            <a:ext cx="1801800" cy="81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9720" y="4314960"/>
            <a:ext cx="192708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5000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Definition: a Spanish word for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Base Word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Inflection: 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llables: li.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Antonym: Magazine news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229440" y="2685960"/>
            <a:ext cx="6476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72280" y="4038480"/>
            <a:ext cx="1423800" cy="1390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Definition: A Spanish word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nonyms: 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Antonyms: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Syllable: ad.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Base Word: 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tch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chup"/>
              </a:rPr>
              <a:t>Inflection: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643720" y="2467080"/>
            <a:ext cx="1819080" cy="100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Definition: A part of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Synonyms: a place to 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Antonyms: the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Syllable: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eptr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eptre"/>
              </a:rPr>
              <a:t>Inf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008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63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lab</cp:lastModifiedBy>
  <dcterms:modified xsi:type="dcterms:W3CDTF">2008-12-11T22:41:44Z</dcterms:modified>
  <cp:revision>10</cp:revision>
  <dc:subject/>
  <dc:title>PowerPoint Presentation</dc:title>
</cp:coreProperties>
</file>